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AC34-CC95-4343-B231-0E2CA3BE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ADBA-77F2-4EC5-BE1F-93F7A4D1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A853-7E30-4039-93C6-5CCE2041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26E8-7DC6-4239-BA8B-85446FD97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6FE-CF7E-4266-9D50-2A9D64BB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B9A-F677-4C09-84A2-274DFADB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348-E4A9-4471-BCE9-CA89C43C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70488-DFD4-479A-A03D-B98DDBC8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73B7-5CD9-4C19-9D29-896091FB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364F6-42F7-4803-BFCE-57FD3D0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9CD64-DDAB-4E85-AF93-CF39C59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57DD6-45A9-4DD9-90BE-6D67962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2D5B-2F39-49B0-800B-A7CE7BED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40D6-E7D5-4460-86D4-3359B867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83A7-530E-46A8-A2B0-6D17B200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9F874-B451-4191-B96C-D05D80BF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7C037-2463-4464-9847-44BDC78D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539-02BC-4B46-A631-25CBB4FB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C296-3DF5-446F-8518-9975F92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0A354-5DB1-4556-81DD-379BCC0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DA37E-73A9-4967-9C88-9546512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F15FB-D741-467E-940E-3CF5D37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5F079-2936-49D5-B5F6-0231910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A8FAB-F62D-458D-88F9-E6005223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2C9DF-18BD-4739-A276-230A1D7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4BDD8-FF79-4DF9-B03C-45D981D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5524F-F439-434D-9666-A425541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7649D-A93F-40D1-B6C4-3B951BF7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B12-5787-4D08-9F07-DFB37909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2603-9FF4-46B2-8BDD-D8047473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2A574-7015-4C2F-850C-DF3050C6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FA2FC-E3F2-40E4-A30E-3E6E7E2A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29096-239A-424C-A0A9-6D445576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A836-5566-47D3-9AAD-89089392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3CF3-07B4-4B4B-8E63-8462475C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60B46-B76C-4F17-9DC2-C381938F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E184-F406-441D-A443-153E19D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F4851-0A38-4D2C-B5CC-BD4A36D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9611-31E2-4B69-A25E-6B3DF21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B654-58BB-49BB-835B-B673A46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AB678-AB45-4988-AA08-F37AB45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212FE-10AD-4EC9-8747-1DA2F887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DC422-3B09-4F0A-B26D-52119793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737CC-0267-4EC8-A093-869BAEED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55A04-F58B-4CE8-BD17-D9E84AEF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25AA3-2C86-4F00-8B7C-984D58E9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A4B0A-6C96-4B3A-8A91-B703DB1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C14EB-82CE-4788-92ED-DCB95F1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E3EF1-B76F-4251-AFBE-0003306F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38A41-862C-4ABD-9F8F-842B3A6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1FA-A21B-451C-B5F0-7B7CBA3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F5DB-3E6A-4B83-B5EF-FEB8375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C28AF-E54D-420A-96C5-B46E7E1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A1BEE-EC12-4FAA-9AA0-33335DEC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BC072-3D5F-4355-9590-88D947C3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11541-8527-4872-9ED1-0D0398D3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BADF1-18FB-48B5-A99C-875EC618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B4E89-5BE5-4948-8359-C585B1EC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7208C-30AD-4762-966E-03CDF7BB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1E446-5234-48C6-A7B5-5857321C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4EEDF-93C9-4BDA-BF6D-A759353C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0F21-7747-4842-AA43-D8591D77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A7587-10E6-4603-A363-81898B2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06133-D34A-4999-ABFF-D6ECB6CC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19641-0C57-4D3C-BF55-25DFDBB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371C6-5896-4106-8568-E9627EB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B0B4B-161B-42C6-BF5D-439A5820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31D7D-B3C1-403C-9B50-4DC6F5DA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ED836-C90B-4F90-90F7-F6C35993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2CEEE-A4A2-4260-9007-1B47EA0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B499C-A4B4-4722-A41F-4B4DDD5E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5B8C4-8BBC-454F-A3E6-E6F6EAD2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FA27-F186-41EA-8690-BF815A1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3F194-880F-495C-BD16-FE92A9B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E8AA6-BCCD-44D2-A15A-54B733B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8B06C-7B85-4B26-867E-79931E5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7DD4C-F440-43B6-A863-E135324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E62ED-EFB2-480A-A8BD-FC5D0B5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BAD06-4076-44DA-BF39-E3CBCAD0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B1A44-9F44-403C-9DD4-31983395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E3416-7E85-4E97-A623-EDDEA6CC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CC24C-2B15-4AFD-8259-C23964EF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31AF8-4D02-4C84-AF4B-2AC3DF6D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97FE-1F14-4EDD-B1D7-7B9DDF38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D5362-3724-49FD-A0F3-0C212BB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B8F77-F6FE-40C9-8FE5-6FE91E9B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D16B6-B8CF-4783-98A0-B7E4CCB1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62FC8-0494-45C0-AFAC-E5C1717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5B35A-52FB-45BA-9BD9-7CAD86A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D5817-04E2-4F1D-8EF2-0BBCE64F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BDB3C-6653-4B05-8977-81EF7FCC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F5473-FD4E-49E3-A166-A13CDF7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1DCD1-7D35-4B99-BCC2-5AD87D2A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DB5DE-9E64-4B2D-9537-C2F344C7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9DE-8E2D-48B5-B3E8-15EADBD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A2B9D-FF3A-4130-9A4F-62F444F0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A18DA-8FB5-4E71-A6D5-3A756418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782F2-E2C6-4F43-B2CF-4E98482C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14982-D4E9-4C67-B498-49327CFC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C06B9-E91F-46F9-BD95-BBBD5FC0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2C65D-219A-4F96-BD7D-306DA984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72E53-7637-47C5-A925-991AB454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A91D0-D5FE-4ADD-8B61-BF8E2516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99B4B-CF59-4786-8870-A934968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121CA-9DAD-4917-9385-90E3DD4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7856-757A-4F3D-940E-D45621F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2A392-A8F2-47EB-83C7-0A9B7D96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E89D6-528F-4AA3-A252-08D5D7C4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F0ADE-1D13-4328-A00D-7E7CB354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D5485-7E0F-46D2-84DC-A33A26C6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5DAD1-7305-4D06-A733-E63F6C0E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971F5-DECC-4253-9DF7-818D2F0D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67E53-ACDE-4950-881B-FC0A5FB6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B742D-A8A7-4002-AE19-0B13B30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0DCCB-2EC1-4BC8-99ED-638BC3D8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E6F7B-0E8F-4453-9389-4B7D91B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304-A680-4C9D-A771-F789DD02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E583-F776-465B-B9F1-75A52A3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B9DEE-5B27-4D96-9E6B-251F5AC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2B665-8CE7-47D1-8EC3-052DE8D7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2BE57-56C4-42FF-A96F-FF3F2F0B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55C2B-BFDA-4986-BDAC-7B8C9D79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85A17-6367-4298-9542-A655178F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2F084-6FC7-434E-B3DC-7593D55C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74E87-E465-44C1-B940-79D53260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29EEE-AAD2-464A-900C-BC40F6DC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2B25D-4F38-4095-85A1-073139EF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F4CA2-36A6-4987-9A5B-D1A24A6F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085A-1BD8-491B-8617-A7C10B7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8EBC1-3200-4016-B678-9180035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20657-CCB8-4E80-8244-7ECE703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6A2B9-4A8C-4EA9-AC1A-34A8EDF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847F5-069E-48DE-A1DC-2BF98F88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E5089-8AF4-4E80-8B16-FCF7D3B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1ECC3-E733-4D84-9F14-E45BD253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9D878-5218-4358-A8D6-51B7060A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2460-DDA5-4752-8BCF-B48BE20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E5A7-9704-4A36-A22B-9E596FE4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30D5-0EBA-40C6-B50D-85C1A9FE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B35459-7803-4441-874B-B125F403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0A3120-50D4-4214-A046-40D5B3B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11180D-C532-4F3F-91AF-91477FF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A41B4E-73EC-4A40-8DC9-3B8C8131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A722D3-34EF-4D57-84BD-0BE777D3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889C56-D237-4F52-BBD8-3A0408C8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41230F-6AEA-47C3-B366-E880029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D7F13B-FE1F-474C-9710-114EB59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6ED66EC-5345-4D1F-B4AF-17169D3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48EE-244B-433B-A7EB-098B5B7D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5ED48D-CD92-4D29-B10D-44D16C4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A06CCF-ABEC-47DF-8D82-0A1F59C1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485E52B-7F10-4211-96F0-32CA9F19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CD2611-E9D5-4DD6-9AC7-1053C762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BE0EBE-4564-4AF6-946A-E2284AD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A95995-9090-4981-99DB-F34E6B3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96BFAB-0869-4C4B-B4DC-1AB65EE4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76B96B-D42F-4500-A5BE-6BEBA11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3776A6-A28B-457B-9CAA-B44392D8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E24AC8-3EA3-4454-A734-DE64FC91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BC7D-8F92-4052-AB64-75C768F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D709FB-1613-46D8-9AA1-5B7973B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6A893C-E2F4-4848-9CE0-1A5DC74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D50FBBA-7097-41EF-8138-3F86CD68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2659F4-3EA1-462E-93C7-27FD1678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F3A7697-038C-4D89-BF00-1CED00A5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07804BD-8266-4340-83D1-E7298467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B8984FB-235C-4465-9824-018EA739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DB468F-0DA0-4EFD-8A38-CAB91094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801F07-4F58-438A-8E3D-5566E9A2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3916E01-9551-42EC-AF12-5630F050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7F35-F6C3-41C7-96AE-FF5082E9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628B0A-BC85-4A53-8FE1-E88F257B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E4B434-3A52-4B08-A884-76C8E01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181EF56-F618-4A70-A28D-FB595C4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447B356-20D4-4905-9EC9-B75C7296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63ECF0-C37D-4944-B6CF-0C1DEB7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17ED40-6513-45A5-826E-9BF58E4A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F276C1A-19A0-444F-89D6-FD08CEAF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668E99A-2667-409F-8D9A-363984F4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C25B61-204C-4A22-98BB-18CDEDD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996452-7393-4F8E-86E4-92094033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77E0-7CF0-455C-AE59-B38E066F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1580D5-8539-40FA-BE07-69742D11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5A2725-0AA3-4976-9CB7-8174AFB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55C9CC3-5DC7-4F14-B7A0-1A49749E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353FD3-FB39-41E3-BD5B-D66844D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0D71BC-FA23-445C-9C49-5BB5720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E909969-74AB-4BDE-AE9E-576C2B2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1CA342-693B-482B-8FF2-92252BEE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26D942-5540-4B5F-ABC0-1FF0A1C9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AAE0AF0-AAE5-44C1-AA80-A65A881A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1A49-4588-462A-B00F-8042280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B11-D156-4CA7-B827-8B9708D0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49A6-1D33-4AF0-86D9-CBEEAB5F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2230-3B03-42F0-986A-A185085B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AE73-9DE1-4D33-8A24-BAD4D00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EA76-4CE0-40B5-8A5D-91FF70B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A0A8-E4AD-4652-BEF0-479C7AA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B380-1BF8-4788-84D0-A6747DF6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76DE-20A3-4D2C-AA2A-FE7106D1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024C-F697-4CB8-8340-2F9CB889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477D-1CCC-48F4-BFD1-B4D1A6D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5191-B9B2-49B4-A879-85E92756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A2D-89A3-424F-97D8-24E076F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6D70-A51C-4660-AEAC-72F1E384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0DC1C-8FBA-45A2-A30C-17053BA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577A-E068-4684-950A-BCBB12B2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0664-507D-4AB0-B37E-F63AC07D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2B3C-01F3-412B-819A-2B7D6AB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7094-7625-4DEB-81F8-20A29EB1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CC0D-9B17-44D2-AD24-7F976F5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5CF3-6D20-4F5D-9229-DAEC6A61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8FC8-BD98-4B93-AAC9-600FD90A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FA91-2C65-421D-9B0C-E1B4E40C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DAA-0771-4531-9051-1366223A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74CE-E9B2-4D7B-B54C-E321281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FCDE-F3C2-4F63-A524-7A44626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C8A8-EBDD-4BDD-BC8C-09CD880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9494-2D7C-4807-8EEB-CAFF3356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2EBE-6BEE-41BE-8848-E91A995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F004A-5C4E-45B2-9B53-4C6FB2B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9C46-9E6A-45F0-8FCC-0045E88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ACC5-4CFE-425B-A51F-65AD2BD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242C-FD70-4EBA-BA3D-F39C0155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BF0EC-3E9B-45EF-A3AA-DB31A1CC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34E-FACA-4272-BDC2-9E7C698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EC63-E5F2-405E-A5BB-3F5020F8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BACD-DFC6-469F-9023-28C00841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0E4E-573D-4551-8C53-037A3633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24AA-25FD-4DF5-AA70-96F7DAB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DE62-05B9-4B1C-B345-31F89E4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093C-8084-4DFE-AD8F-83F8E723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A88C-BD4B-4AB9-90B8-1D8968B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5098A-6F07-4543-A1F1-222F94B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CA21-56D4-4808-BD4D-1A274F8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7E2AB-D5A2-434D-8BC7-91AE6679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CA0-FB6C-42EE-A4FC-8D029879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95B6-477D-4204-AD46-9A2DDF90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9228-1321-4161-AD7D-674F2DAE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5287-8540-4BEE-A518-0E081C8D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DB79-12D0-4C07-87C0-C939A2F7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B83D-4DB7-4CB6-8CCB-A42FA19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6AF3-BC90-4EFA-BE9F-6B94725C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E9125-042A-4749-8C52-DABC21D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C55C-4359-4F6C-88F0-22F8185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A877-3073-4DC6-B01C-F22ABF5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CD84-C459-43D0-8343-915F248A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6F9-C826-48C2-9314-05B0D0F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AE68-0824-4ACE-AA49-8ED69002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CEEC6-8F68-46C3-B613-F85F0F4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61BEE-A75B-4B84-A567-1F6BF8FB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54D5-0096-4EFC-B032-D98A684A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1BA7-D524-4A2E-BD0B-08D10D86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216FF-055F-4D7B-BBB7-DE5449E7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EA9DB-45B1-4F2D-92CA-12A8FCF4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1BBB1-3779-4DB7-9561-BAD879C3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7E87-0029-4BEB-AD0A-E1A78199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F0F4B-A0F1-4DDD-BC3A-4D5F4500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FBA-0FBB-498E-9F60-EA1E994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EF770-D488-4AF1-A535-32A61FE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1A301-DCC8-4CDF-98BE-289A455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C4EF-D5DC-4CEA-AFEA-00D08874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F26AF-D96C-4513-B4BE-D4127CA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CC705-6B28-4029-8479-C527A45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B7AB-FDA0-4D5D-ABB6-418C1CD7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18A3-5827-43AA-B408-2C463113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EB60-7F2A-4834-A1A2-74620C44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4EEB0-FB3F-49F3-AD9D-212664A1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0280C-67E6-47D2-A6B3-90CCBEB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D3D-D225-4F85-8E2D-5BC983E6B9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AA9-9BC3-479E-ACDA-BC72585F6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1B4-AF79-41AD-94EA-A8BEF6CDE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59F-71BC-430E-A530-E1A760AD5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8ABB-F4EC-4159-B829-F8478F390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F87-01B5-4616-8AC9-F29723605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B89A-6732-480C-9DFF-3EEE87BCE4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5568-C9A4-4B18-8806-537CD498A2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56F-8AA4-4DDE-B434-442F3C065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AA8B-93ED-4CF8-9E9F-28FFD9278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2D9D-8004-477C-A5A7-183FDC495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2EA1-3EDE-48D1-9BFC-5A6E7CFB1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632A-DAC6-46BD-A319-E1A44BBB7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D31-6FA0-4572-99E4-DDB01434D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7918-03AD-41EA-ABF3-182EF27E2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CB1E-210D-41DC-AD4B-E8D3C1277D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5A6A-9C4C-4B82-8E47-4BFE61F75D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AC9-E426-4DF4-B495-039276D03A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D2FF-EA4F-4938-A528-10D504F12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F23A-A688-4AEF-83EE-FC83BA85A4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ED97-1EF2-46D4-AD0D-D1363EFB72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CB2E-84B6-4492-8D36-9F0645E33B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193-E6D7-414A-8B25-8C3C2CC67804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tilit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pecific fiel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68544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sists of the </a:t>
            </a:r>
            <a:r>
              <a:rPr b="0" lang="en-US" sz="3600" spc="-1" strike="noStrike">
                <a:solidFill>
                  <a:srgbClr val="248aea"/>
                </a:solidFill>
                <a:latin typeface="Calibri"/>
              </a:rPr>
              <a:t>bu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sell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600" spc="-1" strike="noStrike">
                <a:solidFill>
                  <a:srgbClr val="e03133"/>
                </a:solidFill>
                <a:latin typeface="Calibri"/>
              </a:rPr>
              <a:t>produc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5f0eaa"/>
                </a:solidFill>
                <a:latin typeface="Calibri"/>
              </a:rPr>
              <a:t>service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ver </a:t>
            </a: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electronic systems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ch as the Internet and other computer networks (en.Wikipedia.org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9" name="AutoShape 2"/>
          <p:cNvSpPr/>
          <p:nvPr/>
        </p:nvSpPr>
        <p:spPr>
          <a:xfrm>
            <a:off x="457200" y="2057400"/>
            <a:ext cx="830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What is E-comme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funds transfer (EFT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Supply chain management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ternet Market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Online transaction process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data interchange (EDI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ventory management systems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Automated data collection syste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2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4" descr="Errores-comunes-del-SEO-B2B.jpg"/>
          <p:cNvPicPr/>
          <p:nvPr/>
        </p:nvPicPr>
        <p:blipFill>
          <a:blip r:embed="rId2"/>
          <a:stretch/>
        </p:blipFill>
        <p:spPr>
          <a:xfrm>
            <a:off x="4495680" y="3124080"/>
            <a:ext cx="3841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ecific fiel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5" name="Content Placeholder 2" descr=""/>
          <p:cNvPicPr/>
          <p:nvPr/>
        </p:nvPicPr>
        <p:blipFill>
          <a:blip r:embed="rId2"/>
          <a:stretch/>
        </p:blipFill>
        <p:spPr>
          <a:xfrm>
            <a:off x="407880" y="2749680"/>
            <a:ext cx="8321760" cy="3504960"/>
          </a:xfrm>
          <a:prstGeom prst="rect">
            <a:avLst/>
          </a:prstGeom>
          <a:ln w="0">
            <a:noFill/>
          </a:ln>
        </p:spPr>
      </p:pic>
      <p:sp>
        <p:nvSpPr>
          <p:cNvPr id="1116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6" descr="diagram_supplychain.jpg"/>
          <p:cNvPicPr/>
          <p:nvPr/>
        </p:nvPicPr>
        <p:blipFill>
          <a:blip r:embed="rId3"/>
          <a:stretch/>
        </p:blipFill>
        <p:spPr>
          <a:xfrm>
            <a:off x="4038480" y="2743200"/>
            <a:ext cx="4114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onsu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Calibri"/>
              </a:rPr>
              <a:t>FUTURE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E-commerce”, http://en.wikipedia.org/wiki/E-commerce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Internet”, http://en.wikipedia.org/wiki/Internet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ltimosoft – Supply chain”, http://www.ultimosoft.com/industry/supplychain.html, 24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*) : by Carol L. Cook; “How Computers Have Simplified Accounting”; http://www.yale.edu/ynhti/curriculum/units/1989/7/89.07.06.x.html#e;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24" name="Picture 4" descr="pirate63"/>
          <p:cNvPicPr/>
          <p:nvPr/>
        </p:nvPicPr>
        <p:blipFill>
          <a:blip r:embed="rId2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AICPA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2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2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3:50:56Z</dcterms:created>
  <dc:creator>Microsoft</dc:creator>
  <dc:description/>
  <dc:language>en-US</dc:language>
  <cp:lastModifiedBy>Test User</cp:lastModifiedBy>
  <dcterms:modified xsi:type="dcterms:W3CDTF">2010-05-25T01:17:38Z</dcterms:modified>
  <cp:revision>36</cp:revision>
  <dc:subject/>
  <dc:title>Internet</dc:title>
</cp:coreProperties>
</file>